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0CF-1E13-463C-8286-3AD0B6CA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D4E-82D2-4E4E-B70B-10669212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67B-5FDA-4F4B-9BE6-E8DBBFD9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E0F-F0E8-4103-85DC-FCCE7552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7F6-E7D0-4395-A177-AB473F8A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454-C6F0-41FC-BC15-7E48B96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B40-CC48-42C2-A6E4-C5381142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7D0-0209-4930-9EF1-3F237BC2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790-A70E-4EA9-82AF-D4CBD2FC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E7D-5887-490B-9359-663BD7AD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1B0-66E5-4FB0-BED2-BDCB77C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164-03D5-40F5-8CF7-C1DD7D7D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3663-15DA-4630-92D8-D8F5FE0AF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014720" y="1260000"/>
            <a:ext cx="51292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is de la masse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ns l’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532480" y="1766880"/>
            <a:ext cx="3344760" cy="4854600"/>
            <a:chOff x="5532480" y="1766880"/>
            <a:chExt cx="3344760" cy="48546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532480" y="2162160"/>
              <a:ext cx="3344760" cy="44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688080" y="1766880"/>
              <a:ext cx="554040" cy="18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760" y="184320"/>
            <a:ext cx="36766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5440" y="677880"/>
            <a:ext cx="85010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duction du poids de la maquette dans l’air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puis dans l’eau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760" y="2079720"/>
            <a:ext cx="818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étant supérieur à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ette expérienc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 en évidence l'apparition d'une force  de sens opposé au poids lorsque la maquette est immergée dans l'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6600" y="3889440"/>
            <a:ext cx="805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c0"/>
                </a:solidFill>
                <a:latin typeface="Times New Roman"/>
              </a:rPr>
              <a:t>Tout corps plongé dans un fluide subit un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1111"/>
                </a:solidFill>
                <a:latin typeface="Times New Roman"/>
              </a:rPr>
              <a:t>poussée verticale dirigée de bas en haut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0c0c0"/>
                </a:solidFill>
                <a:latin typeface="Times New Roman"/>
              </a:rPr>
              <a:t>égale au poids du volume de fluide déplac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étermination du volume de la maqu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9120" y="3939840"/>
            <a:ext cx="8113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problème étant de déterminer le volume de la maquette, les élèves sont amenés à réfléchir aux méthodes à utili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191120"/>
            <a:ext cx="746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22400" y="19987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90640" y="2448000"/>
            <a:ext cx="775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1111"/>
                </a:solidFill>
                <a:latin typeface="Times New Roman"/>
              </a:rPr>
              <a:t>Tout corps plongé dans un fluide subit une poussée verticale dirigée de bas en haut, égale au poids du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volume de fluide déplac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hématiquement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r des dimensions de la maquette, et en assimilant chaque partie à un cylindre, l’élève calcule le volume total du sous-marin :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95280" y="2743200"/>
            <a:ext cx="6341040" cy="3487680"/>
            <a:chOff x="1295280" y="2743200"/>
            <a:chExt cx="6341040" cy="3487680"/>
          </a:xfrm>
        </p:grpSpPr>
        <p:sp>
          <p:nvSpPr>
            <p:cNvPr id="104" name=""/>
            <p:cNvSpPr/>
            <p:nvPr/>
          </p:nvSpPr>
          <p:spPr>
            <a:xfrm>
              <a:off x="1295280" y="2876400"/>
              <a:ext cx="6127920" cy="247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379520" y="2982960"/>
              <a:ext cx="5946840" cy="23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703160" y="2743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03160" y="2916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97440" y="51958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209680" y="4995720"/>
              <a:ext cx="7920" cy="1164960"/>
              <a:chOff x="2209680" y="4995720"/>
              <a:chExt cx="7920" cy="1164960"/>
            </a:xfrm>
          </p:grpSpPr>
          <p:sp>
            <p:nvSpPr>
              <p:cNvPr id="110" name=""/>
              <p:cNvSpPr/>
              <p:nvPr/>
            </p:nvSpPr>
            <p:spPr>
              <a:xfrm>
                <a:off x="2209680" y="49957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7"/>
                    </a:move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09680" y="505908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09680" y="512244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09680" y="518616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09680" y="524808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09680" y="531144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537516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12" y="5"/>
                    </a:move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09680" y="543852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09680" y="550044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12" y="5"/>
                    </a:move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4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4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09680" y="556380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09680" y="562752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2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09680" y="568944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09680" y="575280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09680" y="581616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87988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09680" y="594180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09680" y="600516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09680" y="606888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12" y="5"/>
                    </a:move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09680" y="613224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508200" y="5005440"/>
              <a:ext cx="9720" cy="1165320"/>
              <a:chOff x="3508200" y="5005440"/>
              <a:chExt cx="9720" cy="1165320"/>
            </a:xfrm>
          </p:grpSpPr>
          <p:sp>
            <p:nvSpPr>
              <p:cNvPr id="130" name=""/>
              <p:cNvSpPr/>
              <p:nvPr/>
            </p:nvSpPr>
            <p:spPr>
              <a:xfrm>
                <a:off x="3508200" y="500544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8"/>
                    </a:moveTo>
                    <a:lnTo>
                      <a:pt x="11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08200" y="506880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08200" y="513252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08200" y="519444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4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4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08200" y="525780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08200" y="532152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4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4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08200" y="538344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08200" y="544680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2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08200" y="551016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08200" y="557388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08200" y="563580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08200" y="569916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08200" y="576288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08200" y="582624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08200" y="588816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08200" y="595152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08200" y="601524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4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4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08200" y="607860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08200" y="614052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10" y="35"/>
                    </a:lnTo>
                    <a:lnTo>
                      <a:pt x="11" y="35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284800" y="4995720"/>
              <a:ext cx="9360" cy="1164960"/>
              <a:chOff x="5284800" y="4995720"/>
              <a:chExt cx="9360" cy="1164960"/>
            </a:xfrm>
          </p:grpSpPr>
          <p:sp>
            <p:nvSpPr>
              <p:cNvPr id="150" name=""/>
              <p:cNvSpPr/>
              <p:nvPr/>
            </p:nvSpPr>
            <p:spPr>
              <a:xfrm>
                <a:off x="5284800" y="499572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7"/>
                    </a:move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84800" y="505908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84800" y="512244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5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284800" y="518616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84800" y="524808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84800" y="531144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284800" y="537516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84800" y="543852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84800" y="550044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4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9" y="54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84800" y="556380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84800" y="562752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2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84800" y="568944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84800" y="575280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284800" y="581616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84800" y="587988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284800" y="594180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5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84800" y="600516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84800" y="606888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84800" y="613224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6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7" y="36"/>
                    </a:lnTo>
                    <a:lnTo>
                      <a:pt x="9" y="34"/>
                    </a:lnTo>
                    <a:lnTo>
                      <a:pt x="11" y="3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497640" y="4952880"/>
              <a:ext cx="7920" cy="1164960"/>
              <a:chOff x="6497640" y="4952880"/>
              <a:chExt cx="7920" cy="1164960"/>
            </a:xfrm>
          </p:grpSpPr>
          <p:sp>
            <p:nvSpPr>
              <p:cNvPr id="170" name=""/>
              <p:cNvSpPr/>
              <p:nvPr/>
            </p:nvSpPr>
            <p:spPr>
              <a:xfrm>
                <a:off x="6497640" y="495288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8"/>
                    </a:move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97640" y="501624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2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97640" y="507816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97640" y="5141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497640" y="520524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97640" y="526860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97640" y="5330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5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97640" y="539388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97640" y="545760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97640" y="552096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497640" y="558288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4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9" y="54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7640" y="564660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97640" y="570996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3" y="54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9" y="54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97640" y="577188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97640" y="583524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2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497640" y="589896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97640" y="596232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97640" y="602424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5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497640" y="6087960"/>
                <a:ext cx="7920" cy="2988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6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7" y="36"/>
                    </a:lnTo>
                    <a:lnTo>
                      <a:pt x="9" y="34"/>
                    </a:lnTo>
                    <a:lnTo>
                      <a:pt x="11" y="3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095960" y="4962600"/>
              <a:ext cx="9720" cy="1165320"/>
              <a:chOff x="7095960" y="4962600"/>
              <a:chExt cx="9720" cy="1165320"/>
            </a:xfrm>
          </p:grpSpPr>
          <p:sp>
            <p:nvSpPr>
              <p:cNvPr id="190" name=""/>
              <p:cNvSpPr/>
              <p:nvPr/>
            </p:nvSpPr>
            <p:spPr>
              <a:xfrm>
                <a:off x="7095960" y="496260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8"/>
                    </a:move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95960" y="502452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95960" y="508788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095960" y="515160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5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95960" y="521496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095960" y="527688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95960" y="534060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095960" y="540396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4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9" y="54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95960" y="546732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95960" y="552924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3" y="54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9" y="54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95960" y="559296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095960" y="565632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2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095960" y="571824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095960" y="578160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095960" y="584532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5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095960" y="590868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95960" y="597060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11" y="5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95960" y="603432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3"/>
                    </a:lnTo>
                    <a:lnTo>
                      <a:pt x="11" y="5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95960" y="609768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11" y="5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6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6"/>
                    </a:lnTo>
                    <a:lnTo>
                      <a:pt x="9" y="34"/>
                    </a:lnTo>
                    <a:lnTo>
                      <a:pt x="11" y="3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633680" y="5911920"/>
              <a:ext cx="563400" cy="61920"/>
              <a:chOff x="1633680" y="5911920"/>
              <a:chExt cx="563400" cy="61920"/>
            </a:xfrm>
          </p:grpSpPr>
          <p:sp>
            <p:nvSpPr>
              <p:cNvPr id="210" name=""/>
              <p:cNvSpPr/>
              <p:nvPr/>
            </p:nvSpPr>
            <p:spPr>
              <a:xfrm>
                <a:off x="1693800" y="5942160"/>
                <a:ext cx="442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33680" y="5911920"/>
                <a:ext cx="64800" cy="61920"/>
              </a:xfrm>
              <a:custGeom>
                <a:avLst/>
                <a:gdLst/>
                <a:ahLst/>
                <a:rect l="l" t="t" r="r" b="b"/>
                <a:pathLst>
                  <a:path w="81" h="79">
                    <a:moveTo>
                      <a:pt x="81" y="0"/>
                    </a:moveTo>
                    <a:lnTo>
                      <a:pt x="0" y="40"/>
                    </a:lnTo>
                    <a:lnTo>
                      <a:pt x="81" y="7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31920" y="5911920"/>
                <a:ext cx="65160" cy="61920"/>
              </a:xfrm>
              <a:custGeom>
                <a:avLst/>
                <a:gdLst/>
                <a:ahLst/>
                <a:rect l="l" t="t" r="r" b="b"/>
                <a:pathLst>
                  <a:path w="81" h="79">
                    <a:moveTo>
                      <a:pt x="0" y="79"/>
                    </a:moveTo>
                    <a:lnTo>
                      <a:pt x="81" y="40"/>
                    </a:lnTo>
                    <a:lnTo>
                      <a:pt x="0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220840" y="5904000"/>
              <a:ext cx="1263600" cy="61920"/>
              <a:chOff x="2220840" y="5904000"/>
              <a:chExt cx="1263600" cy="61920"/>
            </a:xfrm>
          </p:grpSpPr>
          <p:sp>
            <p:nvSpPr>
              <p:cNvPr id="214" name=""/>
              <p:cNvSpPr/>
              <p:nvPr/>
            </p:nvSpPr>
            <p:spPr>
              <a:xfrm>
                <a:off x="2281320" y="5934240"/>
                <a:ext cx="1144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20840" y="5904000"/>
                <a:ext cx="65160" cy="61920"/>
              </a:xfrm>
              <a:custGeom>
                <a:avLst/>
                <a:gdLst/>
                <a:ahLst/>
                <a:rect l="l" t="t" r="r" b="b"/>
                <a:pathLst>
                  <a:path w="81" h="79">
                    <a:moveTo>
                      <a:pt x="81" y="0"/>
                    </a:moveTo>
                    <a:lnTo>
                      <a:pt x="0" y="40"/>
                    </a:lnTo>
                    <a:lnTo>
                      <a:pt x="81" y="7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21080" y="590400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1" h="79">
                    <a:moveTo>
                      <a:pt x="0" y="79"/>
                    </a:moveTo>
                    <a:lnTo>
                      <a:pt x="81" y="40"/>
                    </a:lnTo>
                    <a:lnTo>
                      <a:pt x="0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540240" y="5911920"/>
              <a:ext cx="1724040" cy="61920"/>
              <a:chOff x="3540240" y="5911920"/>
              <a:chExt cx="1724040" cy="61920"/>
            </a:xfrm>
          </p:grpSpPr>
          <p:sp>
            <p:nvSpPr>
              <p:cNvPr id="218" name=""/>
              <p:cNvSpPr/>
              <p:nvPr/>
            </p:nvSpPr>
            <p:spPr>
              <a:xfrm>
                <a:off x="3600360" y="5942160"/>
                <a:ext cx="1603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40240" y="5911920"/>
                <a:ext cx="64800" cy="61920"/>
              </a:xfrm>
              <a:custGeom>
                <a:avLst/>
                <a:gdLst/>
                <a:ahLst/>
                <a:rect l="l" t="t" r="r" b="b"/>
                <a:pathLst>
                  <a:path w="81" h="79">
                    <a:moveTo>
                      <a:pt x="81" y="0"/>
                    </a:moveTo>
                    <a:lnTo>
                      <a:pt x="0" y="40"/>
                    </a:lnTo>
                    <a:lnTo>
                      <a:pt x="81" y="7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99120" y="5911920"/>
                <a:ext cx="65160" cy="61920"/>
              </a:xfrm>
              <a:custGeom>
                <a:avLst/>
                <a:gdLst/>
                <a:ahLst/>
                <a:rect l="l" t="t" r="r" b="b"/>
                <a:pathLst>
                  <a:path w="81" h="79">
                    <a:moveTo>
                      <a:pt x="0" y="79"/>
                    </a:moveTo>
                    <a:lnTo>
                      <a:pt x="81" y="40"/>
                    </a:lnTo>
                    <a:lnTo>
                      <a:pt x="0" y="0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315040" y="5919840"/>
              <a:ext cx="1171440" cy="63360"/>
              <a:chOff x="5315040" y="5919840"/>
              <a:chExt cx="1171440" cy="63360"/>
            </a:xfrm>
          </p:grpSpPr>
          <p:sp>
            <p:nvSpPr>
              <p:cNvPr id="222" name=""/>
              <p:cNvSpPr/>
              <p:nvPr/>
            </p:nvSpPr>
            <p:spPr>
              <a:xfrm>
                <a:off x="5375160" y="5951520"/>
                <a:ext cx="1051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15040" y="591984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82" y="0"/>
                    </a:moveTo>
                    <a:lnTo>
                      <a:pt x="0" y="40"/>
                    </a:lnTo>
                    <a:lnTo>
                      <a:pt x="82" y="8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21320" y="591984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0" y="80"/>
                    </a:moveTo>
                    <a:lnTo>
                      <a:pt x="81" y="40"/>
                    </a:lnTo>
                    <a:lnTo>
                      <a:pt x="0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6529320" y="5919840"/>
              <a:ext cx="554040" cy="63360"/>
              <a:chOff x="6529320" y="5919840"/>
              <a:chExt cx="554040" cy="63360"/>
            </a:xfrm>
          </p:grpSpPr>
          <p:sp>
            <p:nvSpPr>
              <p:cNvPr id="226" name=""/>
              <p:cNvSpPr/>
              <p:nvPr/>
            </p:nvSpPr>
            <p:spPr>
              <a:xfrm>
                <a:off x="6588000" y="595152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529320" y="591984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82" y="0"/>
                    </a:moveTo>
                    <a:lnTo>
                      <a:pt x="0" y="40"/>
                    </a:lnTo>
                    <a:lnTo>
                      <a:pt x="82" y="8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18200" y="591984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0" y="80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695840" y="3381480"/>
              <a:ext cx="460440" cy="7920"/>
              <a:chOff x="4695840" y="3381480"/>
              <a:chExt cx="460440" cy="7920"/>
            </a:xfrm>
          </p:grpSpPr>
          <p:sp>
            <p:nvSpPr>
              <p:cNvPr id="230" name=""/>
              <p:cNvSpPr/>
              <p:nvPr/>
            </p:nvSpPr>
            <p:spPr>
              <a:xfrm>
                <a:off x="4695840" y="338148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7" y="0"/>
                    </a:move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59200" y="338148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22920" y="338148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86280" y="3381480"/>
                <a:ext cx="44640" cy="79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48200" y="338148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56" h="12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11560" y="3381480"/>
                <a:ext cx="44640" cy="79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75280" y="338148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56" h="12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38640" y="338148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8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971960" y="3384720"/>
              <a:ext cx="63720" cy="610560"/>
              <a:chOff x="4971960" y="3384720"/>
              <a:chExt cx="63720" cy="610560"/>
            </a:xfrm>
          </p:grpSpPr>
          <p:sp>
            <p:nvSpPr>
              <p:cNvPr id="239" name=""/>
              <p:cNvSpPr/>
              <p:nvPr/>
            </p:nvSpPr>
            <p:spPr>
              <a:xfrm>
                <a:off x="5003640" y="3444480"/>
                <a:ext cx="1800" cy="4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71960" y="3384720"/>
                <a:ext cx="63720" cy="64800"/>
              </a:xfrm>
              <a:custGeom>
                <a:avLst/>
                <a:gdLst/>
                <a:ahLst/>
                <a:rect l="l" t="t" r="r" b="b"/>
                <a:pathLst>
                  <a:path w="79" h="81">
                    <a:moveTo>
                      <a:pt x="79" y="81"/>
                    </a:moveTo>
                    <a:lnTo>
                      <a:pt x="40" y="0"/>
                    </a:lnTo>
                    <a:lnTo>
                      <a:pt x="0" y="81"/>
                    </a:lnTo>
                    <a:lnTo>
                      <a:pt x="79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71960" y="3930480"/>
                <a:ext cx="63720" cy="64800"/>
              </a:xfrm>
              <a:custGeom>
                <a:avLst/>
                <a:gdLst/>
                <a:ahLst/>
                <a:rect l="l" t="t" r="r" b="b"/>
                <a:pathLst>
                  <a:path w="79" h="81">
                    <a:moveTo>
                      <a:pt x="0" y="0"/>
                    </a:moveTo>
                    <a:lnTo>
                      <a:pt x="40" y="81"/>
                    </a:lnTo>
                    <a:lnTo>
                      <a:pt x="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1643040" y="4376880"/>
              <a:ext cx="3128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4400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04920" y="4424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33960" y="4400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13400" y="4371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67080" y="4248000"/>
              <a:ext cx="4003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94160" y="46562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73360" y="4532400"/>
              <a:ext cx="4017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9720" y="450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83400" y="4533840"/>
              <a:ext cx="3492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78520" y="4502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56080" y="4584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94240" y="571824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3,8 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7960" y="5748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10240" y="5699160"/>
              <a:ext cx="6951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15000" y="5695920"/>
              <a:ext cx="58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3,8 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7360" y="5748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72120" y="5713560"/>
              <a:ext cx="63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,5 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76560" y="5772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20800" y="5695920"/>
              <a:ext cx="35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79240" y="5748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00800" y="5695920"/>
              <a:ext cx="6253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39120" y="571500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 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5240" y="5757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95720" y="3559320"/>
              <a:ext cx="7034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73840" y="358128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 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38320" y="3608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42880" y="3384720"/>
              <a:ext cx="119412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804680" y="3422520"/>
              <a:ext cx="177120" cy="274680"/>
              <a:chOff x="1804680" y="3422520"/>
              <a:chExt cx="17712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1804680" y="342252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21680" y="35542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000880" y="3468600"/>
              <a:ext cx="45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= 11 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42960" y="34686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792440" y="3684600"/>
              <a:ext cx="328320" cy="320760"/>
              <a:chOff x="1792440" y="3684600"/>
              <a:chExt cx="328320" cy="320760"/>
            </a:xfrm>
          </p:grpSpPr>
          <p:sp>
            <p:nvSpPr>
              <p:cNvPr id="276" name=""/>
              <p:cNvSpPr/>
              <p:nvPr/>
            </p:nvSpPr>
            <p:spPr>
              <a:xfrm>
                <a:off x="1792440" y="3684600"/>
                <a:ext cx="32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2006280" y="3684600"/>
                <a:ext cx="113400" cy="320760"/>
                <a:chOff x="2006280" y="3684600"/>
                <a:chExt cx="113400" cy="320760"/>
              </a:xfrm>
            </p:grpSpPr>
            <p:sp>
              <p:nvSpPr>
                <p:cNvPr id="278" name=""/>
                <p:cNvSpPr/>
                <p:nvPr/>
              </p:nvSpPr>
              <p:spPr>
                <a:xfrm flipH="1">
                  <a:off x="2051640" y="3684600"/>
                  <a:ext cx="6804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06280" y="3897360"/>
                  <a:ext cx="93600" cy="108000"/>
                </a:xfrm>
                <a:custGeom>
                  <a:avLst/>
                  <a:gdLst/>
                  <a:ahLst/>
                  <a:rect l="l" t="t" r="r" b="b"/>
                  <a:pathLst>
                    <a:path w="119" h="136">
                      <a:moveTo>
                        <a:pt x="0" y="0"/>
                      </a:moveTo>
                      <a:lnTo>
                        <a:pt x="24" y="136"/>
                      </a:lnTo>
                      <a:lnTo>
                        <a:pt x="119" y="3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" name=""/>
            <p:cNvSpPr/>
            <p:nvPr/>
          </p:nvSpPr>
          <p:spPr>
            <a:xfrm>
              <a:off x="2776680" y="3454560"/>
              <a:ext cx="11109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141360" y="3498840"/>
              <a:ext cx="182160" cy="274680"/>
              <a:chOff x="3141360" y="3498840"/>
              <a:chExt cx="182160" cy="274680"/>
            </a:xfrm>
          </p:grpSpPr>
          <p:sp>
            <p:nvSpPr>
              <p:cNvPr id="282" name=""/>
              <p:cNvSpPr/>
              <p:nvPr/>
            </p:nvSpPr>
            <p:spPr>
              <a:xfrm>
                <a:off x="3141360" y="34988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58720" y="3629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3348360" y="3535200"/>
              <a:ext cx="45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= 11 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90440" y="35114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60800" y="3743280"/>
              <a:ext cx="600840" cy="234720"/>
              <a:chOff x="3160800" y="3743280"/>
              <a:chExt cx="600840" cy="234720"/>
            </a:xfrm>
          </p:grpSpPr>
          <p:sp>
            <p:nvSpPr>
              <p:cNvPr id="287" name=""/>
              <p:cNvSpPr/>
              <p:nvPr/>
            </p:nvSpPr>
            <p:spPr>
              <a:xfrm>
                <a:off x="3160800" y="3743280"/>
                <a:ext cx="340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3501720" y="3743280"/>
                <a:ext cx="259920" cy="234720"/>
                <a:chOff x="3501720" y="3743280"/>
                <a:chExt cx="259920" cy="2347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501720" y="3743280"/>
                  <a:ext cx="201240" cy="18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676680" y="3885120"/>
                  <a:ext cx="84960" cy="92880"/>
                </a:xfrm>
                <a:custGeom>
                  <a:avLst/>
                  <a:gdLst/>
                  <a:ahLst/>
                  <a:rect l="l" t="t" r="r" b="b"/>
                  <a:pathLst>
                    <a:path w="137" h="125">
                      <a:moveTo>
                        <a:pt x="0" y="100"/>
                      </a:moveTo>
                      <a:lnTo>
                        <a:pt x="137" y="125"/>
                      </a:lnTo>
                      <a:lnTo>
                        <a:pt x="74" y="0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5584680" y="3551400"/>
              <a:ext cx="91944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936760" y="3595680"/>
              <a:ext cx="175680" cy="274680"/>
              <a:chOff x="5936760" y="3595680"/>
              <a:chExt cx="175680" cy="274680"/>
            </a:xfrm>
          </p:grpSpPr>
          <p:sp>
            <p:nvSpPr>
              <p:cNvPr id="293" name=""/>
              <p:cNvSpPr/>
              <p:nvPr/>
            </p:nvSpPr>
            <p:spPr>
              <a:xfrm>
                <a:off x="5936760" y="35956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052320" y="37260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142680" y="363204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= 9 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22840" y="3606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969160" y="3841920"/>
              <a:ext cx="345240" cy="234360"/>
              <a:chOff x="5969160" y="3841920"/>
              <a:chExt cx="345240" cy="2343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5969160" y="3841920"/>
                <a:ext cx="33804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6211800" y="3849840"/>
                <a:ext cx="102600" cy="226440"/>
                <a:chOff x="6211800" y="3849840"/>
                <a:chExt cx="102600" cy="226440"/>
              </a:xfrm>
            </p:grpSpPr>
            <p:sp>
              <p:nvSpPr>
                <p:cNvPr id="300" name=""/>
                <p:cNvSpPr/>
                <p:nvPr/>
              </p:nvSpPr>
              <p:spPr>
                <a:xfrm flipH="1">
                  <a:off x="6255720" y="3849840"/>
                  <a:ext cx="5868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211800" y="3971520"/>
                  <a:ext cx="91800" cy="104760"/>
                </a:xfrm>
                <a:custGeom>
                  <a:avLst/>
                  <a:gdLst/>
                  <a:ahLst/>
                  <a:rect l="l" t="t" r="r" b="b"/>
                  <a:pathLst>
                    <a:path w="115" h="138">
                      <a:moveTo>
                        <a:pt x="0" y="0"/>
                      </a:moveTo>
                      <a:lnTo>
                        <a:pt x="11" y="138"/>
                      </a:lnTo>
                      <a:lnTo>
                        <a:pt x="115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4276800" y="3551400"/>
              <a:ext cx="347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98480" y="3537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30400" y="3597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54240" y="3063960"/>
              <a:ext cx="11638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417480" y="3106800"/>
              <a:ext cx="182160" cy="274680"/>
              <a:chOff x="3417480" y="3106800"/>
              <a:chExt cx="182160" cy="274680"/>
            </a:xfrm>
          </p:grpSpPr>
          <p:sp>
            <p:nvSpPr>
              <p:cNvPr id="307" name=""/>
              <p:cNvSpPr/>
              <p:nvPr/>
            </p:nvSpPr>
            <p:spPr>
              <a:xfrm>
                <a:off x="3417480" y="310680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534840" y="3237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623400" y="314316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= 6 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01760" y="31194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384720" y="3398760"/>
              <a:ext cx="755280" cy="225000"/>
              <a:chOff x="3384720" y="3398760"/>
              <a:chExt cx="755280" cy="225000"/>
            </a:xfrm>
          </p:grpSpPr>
          <p:sp>
            <p:nvSpPr>
              <p:cNvPr id="312" name=""/>
              <p:cNvSpPr/>
              <p:nvPr/>
            </p:nvSpPr>
            <p:spPr>
              <a:xfrm>
                <a:off x="3384720" y="3398760"/>
                <a:ext cx="4284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3813120" y="3398760"/>
                <a:ext cx="326880" cy="225000"/>
                <a:chOff x="3813120" y="3398760"/>
                <a:chExt cx="326880" cy="2250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813120" y="3398760"/>
                  <a:ext cx="26136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049640" y="3538800"/>
                  <a:ext cx="90360" cy="84960"/>
                </a:xfrm>
                <a:custGeom>
                  <a:avLst/>
                  <a:gdLst/>
                  <a:ahLst/>
                  <a:rect l="l" t="t" r="r" b="b"/>
                  <a:pathLst>
                    <a:path w="138" h="119">
                      <a:moveTo>
                        <a:pt x="0" y="104"/>
                      </a:moveTo>
                      <a:lnTo>
                        <a:pt x="138" y="119"/>
                      </a:lnTo>
                      <a:lnTo>
                        <a:pt x="66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6" name=""/>
            <p:cNvSpPr/>
            <p:nvPr/>
          </p:nvSpPr>
          <p:spPr>
            <a:xfrm>
              <a:off x="2233440" y="4089240"/>
              <a:ext cx="127332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44600" y="4954680"/>
              <a:ext cx="12510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97400" y="4075200"/>
              <a:ext cx="11448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99200" y="4937040"/>
              <a:ext cx="11808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600200" y="4933800"/>
              <a:ext cx="7920" cy="1164960"/>
              <a:chOff x="1600200" y="4933800"/>
              <a:chExt cx="7920" cy="1164960"/>
            </a:xfrm>
          </p:grpSpPr>
          <p:sp>
            <p:nvSpPr>
              <p:cNvPr id="321" name=""/>
              <p:cNvSpPr/>
              <p:nvPr/>
            </p:nvSpPr>
            <p:spPr>
              <a:xfrm>
                <a:off x="1600200" y="493380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7"/>
                    </a:move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600200" y="499716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00200" y="506052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00200" y="512424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00200" y="518616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00200" y="524952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00200" y="531324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12" y="5"/>
                    </a:move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00200" y="537660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00200" y="5438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12" y="5"/>
                    </a:move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4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4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600200" y="550188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00200" y="556560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2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600200" y="5627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600200" y="569088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00200" y="575424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600200" y="581796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00200" y="587988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600200" y="594324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7"/>
                    </a:lnTo>
                    <a:lnTo>
                      <a:pt x="8" y="57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600200" y="6006960"/>
                <a:ext cx="7920" cy="442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12" y="5"/>
                    </a:move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4" y="55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5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600200" y="607032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12" y="6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érimenta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r débordement, en immergeant la maquette dans un bas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014560" y="2273400"/>
            <a:ext cx="5168880" cy="3876480"/>
          </a:xfrm>
          <a:prstGeom prst="rect">
            <a:avLst/>
          </a:prstGeom>
          <a:ln w="6480">
            <a:solidFill>
              <a:srgbClr val="d3d7d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étermination du poids d'eau correspondant au volume de la maquet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8440" y="4055760"/>
            <a:ext cx="77724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'objectif est de déterminer 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"</a:t>
            </a:r>
            <a:r>
              <a:rPr b="1" i="1" lang="en-US" sz="2800" spc="-1" strike="noStrike">
                <a:solidFill>
                  <a:srgbClr val="ff1111"/>
                </a:solidFill>
                <a:latin typeface="Times New Roman"/>
              </a:rPr>
              <a:t>poids du volume de fluide déplacé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'est à dire le poids d'eau correspondant au volume de la maquette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41400" y="2394000"/>
            <a:ext cx="7504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1111"/>
                </a:solidFill>
                <a:latin typeface="Times New Roman"/>
              </a:rPr>
              <a:t>Tout corps plongé dans un fluide subit une poussée verticale dirigée de bas en haut, égale au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oids du volume de fluide déplac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mière méthod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prélèvement d'un volume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'eau permet, grâce au peson de déterminer la masse, puis de calculer le poids d'eau dont le volume correspond à celui de la maqu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16040" y="3056040"/>
            <a:ext cx="8001000" cy="3223080"/>
            <a:chOff x="716040" y="3056040"/>
            <a:chExt cx="8001000" cy="3223080"/>
          </a:xfrm>
        </p:grpSpPr>
        <p:sp>
          <p:nvSpPr>
            <p:cNvPr id="347" name=""/>
            <p:cNvSpPr/>
            <p:nvPr/>
          </p:nvSpPr>
          <p:spPr>
            <a:xfrm>
              <a:off x="716040" y="3056040"/>
              <a:ext cx="8001000" cy="32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-289080">
                <a:lnSpc>
                  <a:spcPct val="9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uxième méthode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lle consiste à prélever un volume connu d'eau (1 L par exemple), à en mesurer la masse, puis à calculer la masse volumique de l'eau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n multipliant     par 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, l'élève peut calculer la masse, puis le poids d'eau correspondant au volume de la maquet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3268800" y="5086440"/>
                  <a:ext cx="2347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164200" y="4444920"/>
                  <a:ext cx="2984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ρ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4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érification du principe d'Archimède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'élève peut établir l'égalité entre le poids d'eau correspondant au volume de la maquette et la différence de poid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oids de la maquette dans l'air – poids de la maquette dans l'eau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principe d'Archimède est ainsi vérifié, puisque le sens de la poussée (de bas en haut) et son intensité ont été détermin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thè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95160" y="92376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vérifier le principe d'Archimède, l'atelier sous-marin se décompose en plusieurs activité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7120" y="2603520"/>
            <a:ext cx="7808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termination du volume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maquet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r le calcul (activité mathématiqu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périmenta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6200" y="3773520"/>
            <a:ext cx="7916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termination du poids de l'eau dont le volume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égal à celui de la maquette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r pesée du volume d'eau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r détermination de la masse volumique de l'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6240" y="5361120"/>
            <a:ext cx="772776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différ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au poids du volum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'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7120" y="1801800"/>
            <a:ext cx="8103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en évidence d'une différence de po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ar pesée de la maquette dans l'air puis dans l'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longements possibles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 sciences physiqu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8880" y="2840040"/>
            <a:ext cx="81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ondition d'équilibre (ou de non équilibre) d'un objet plongé dans l'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5400" y="3954600"/>
            <a:ext cx="76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eprésentation vectorielle des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7200" y="4695840"/>
            <a:ext cx="805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fluence du point d'application des forces sur la position de l'obj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telier sous-mar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incipe d’Archimè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79440" y="546120"/>
            <a:ext cx="801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analogie est faite entre le sous-marin et le nautile, puisque tous les deux utilisent un dispositif de ballasts ou de loges, plus ou moins remplis, pour équilibrer leur poids et la poussée d'Archimè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8760" y="253044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étude de la physiologie du nautile peut être réalisée. Elle permet de mettre en évidence les différences fondamentales entre les deux exemples de ballastag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nautile met en jeu des phénomènes très lents liés à la pression osmotique  pour assurer son équilibre et sa flottabilité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 contre, ses déplacements verticaux sont assurés par propulsion d'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82760" y="2760840"/>
            <a:ext cx="8162640" cy="3454200"/>
            <a:chOff x="482760" y="2760840"/>
            <a:chExt cx="8162640" cy="345420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tretch/>
          </p:blipFill>
          <p:spPr>
            <a:xfrm>
              <a:off x="4256280" y="2760840"/>
              <a:ext cx="4389120" cy="32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2"/>
            <a:stretch/>
          </p:blipFill>
          <p:spPr>
            <a:xfrm>
              <a:off x="482760" y="2822760"/>
              <a:ext cx="3922560" cy="339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162000"/>
            <a:ext cx="8885160" cy="6696000"/>
            <a:chOff x="0" y="162000"/>
            <a:chExt cx="8885160" cy="6696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0" y="3122640"/>
              <a:ext cx="523080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8200" y="162000"/>
              <a:ext cx="8346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ojet présenté en partenariat entre </a:t>
              </a:r>
              <a:br>
                <a:rPr sz="2800"/>
              </a:b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ycée Alexis de Tocqueville de Cherbour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7234200" y="6651720"/>
            <a:ext cx="150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6360" y="1739880"/>
            <a:ext cx="8567640" cy="5118120"/>
            <a:chOff x="576360" y="1739880"/>
            <a:chExt cx="8567640" cy="5118120"/>
          </a:xfrm>
        </p:grpSpPr>
        <p:grpSp>
          <p:nvGrpSpPr>
            <p:cNvPr id="49" name=""/>
            <p:cNvGrpSpPr/>
            <p:nvPr/>
          </p:nvGrpSpPr>
          <p:grpSpPr>
            <a:xfrm>
              <a:off x="576360" y="1739880"/>
              <a:ext cx="8567640" cy="5118120"/>
              <a:chOff x="576360" y="1739880"/>
              <a:chExt cx="8567640" cy="5118120"/>
            </a:xfrm>
          </p:grpSpPr>
          <p:sp>
            <p:nvSpPr>
              <p:cNvPr id="50" name=""/>
              <p:cNvSpPr/>
              <p:nvPr/>
            </p:nvSpPr>
            <p:spPr>
              <a:xfrm>
                <a:off x="576360" y="1739880"/>
                <a:ext cx="785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t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a Cité de la Mer de Cherbour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46600" y="3125880"/>
                <a:ext cx="4397400" cy="3732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4741920" y="5915160"/>
              <a:ext cx="1577880" cy="94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7853400" y="6643800"/>
            <a:ext cx="12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hoto Sylvain Guich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exte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38160"/>
            <a:ext cx="830592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ité de la Mer de Cherbourg dispose d'un sous-marin visitable (128 m de long, 10 m de diamètre) et d'une exposition permanente axée autour des sous-marins (histoire, technique de construction, principe de fonctionnement, simulateurs de pilotag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00280" y="4160880"/>
            <a:ext cx="73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aquarium contient des spécimens de nautiles viv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3120" y="5365800"/>
            <a:ext cx="75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parallèle y est fait entre la flottabilité des nautiles et celle des sous-marin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125280" y="0"/>
            <a:ext cx="9269280" cy="6858000"/>
            <a:chOff x="-125280" y="0"/>
            <a:chExt cx="9269280" cy="68580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-125280" y="0"/>
              <a:ext cx="9269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29360" y="6391440"/>
              <a:ext cx="199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hoto Sylvain Guich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48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yens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880" y="159372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maquette de sous-marin réalisée en tubes PVC et méthacry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4680" y="3324240"/>
            <a:ext cx="7802280" cy="2973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9760" y="2593800"/>
            <a:ext cx="88185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pompe à eau révers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2 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6520" y="3486240"/>
            <a:ext cx="845640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bassin (aquar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pe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340000" y="2546280"/>
            <a:ext cx="6702480" cy="4311720"/>
            <a:chOff x="2340000" y="2546280"/>
            <a:chExt cx="6702480" cy="4311720"/>
          </a:xfrm>
        </p:grpSpPr>
        <p:grpSp>
          <p:nvGrpSpPr>
            <p:cNvPr id="68" name=""/>
            <p:cNvGrpSpPr/>
            <p:nvPr/>
          </p:nvGrpSpPr>
          <p:grpSpPr>
            <a:xfrm>
              <a:off x="5048280" y="2546280"/>
              <a:ext cx="3994200" cy="4311720"/>
              <a:chOff x="5048280" y="2546280"/>
              <a:chExt cx="3994200" cy="4311720"/>
            </a:xfrm>
          </p:grpSpPr>
          <p:pic>
            <p:nvPicPr>
              <p:cNvPr id="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8280" y="2546280"/>
                <a:ext cx="3994200" cy="43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6797880" y="2658960"/>
                <a:ext cx="1441440" cy="14414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flipV="1">
              <a:off x="2340000" y="3568680"/>
              <a:ext cx="4454640" cy="64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848200" y="3389400"/>
            <a:ext cx="28926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8600" y="60912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Énoncé du principe d’Archimè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2004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1111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1111"/>
                </a:solidFill>
                <a:latin typeface="Times New Roman"/>
              </a:rPr>
              <a:t>Tout corps plongé dans un fluide subit une poussée verticale dirigée de bas en haut, égale au poids du volume de fluide déplac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9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fs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e comprendre la signification du principe d’Archimède à des élèves de collège et lyc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0481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érifier quantitativement le principe d’Archimède par une série d’expé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114800"/>
            <a:ext cx="812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tablir un parallèle entre un objet technologique (sous-marin) et un animal (naut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1111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1111"/>
                </a:solidFill>
                <a:latin typeface="Times New Roman"/>
              </a:rPr>
              <a:t>Tout corps plongé dans un fluide subit un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oussée verticale </a:t>
            </a:r>
            <a:r>
              <a:rPr b="1" i="1" lang="en-US" sz="2800" spc="-1" strike="noStrike">
                <a:solidFill>
                  <a:srgbClr val="ff1111"/>
                </a:solidFill>
                <a:latin typeface="Times New Roman"/>
              </a:rPr>
              <a:t>dirigée de bas en haut, égale au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oids du volume de fluide déplac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se en évidence de la poussée d’Archimè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7920" y="2047680"/>
            <a:ext cx="5824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ballasts sont remplis d’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000" y="2617920"/>
            <a:ext cx="3898800" cy="21333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932040" y="2876400"/>
            <a:ext cx="7954920" cy="3814920"/>
            <a:chOff x="932040" y="2876400"/>
            <a:chExt cx="7954920" cy="381492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6024600" y="2876400"/>
              <a:ext cx="286236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932040" y="5022720"/>
              <a:ext cx="519588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râce au peson, détermination                 de la masse de la maquette 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dans l’air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322960" y="3859200"/>
              <a:ext cx="1890720" cy="178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7:09:47Z</dcterms:created>
  <dc:creator>Administrateur.10368</dc:creator>
  <dc:description/>
  <dc:language>en-US</dc:language>
  <cp:lastModifiedBy>iroux</cp:lastModifiedBy>
  <dcterms:modified xsi:type="dcterms:W3CDTF">2007-04-23T08:15:41Z</dcterms:modified>
  <cp:revision>49</cp:revision>
  <dc:subject/>
  <dc:title>Atelier sous-marin</dc:title>
</cp:coreProperties>
</file>