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6DB-7D68-480E-8B2C-F88D774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977-116C-4AA9-8B63-18B9EA0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430-614F-4FB9-B034-57B0539B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25F-A001-4DC6-8F7D-9EF48303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981-35FB-4900-9018-E4E4A201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291-2202-4108-B5D0-E2C9C16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40F-9426-4F6B-9CA4-6561946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A70-7324-4F46-9D91-0092396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72D-5693-41A5-A6EC-4DB1B3DF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3FE-B8C1-4F5C-AB0C-44AE4D7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3AD-EC69-491F-A652-B71449C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288-46D9-4FC4-9B19-7D94DB8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FA4B-BA5C-4E87-BD0C-862B7C85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272360" cy="412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ctonia, 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 puzzle 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mouvement...</a:t>
            </a:r>
            <a:endParaRPr b="0" lang="en-US" sz="4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uzzle3"/>
          <p:cNvSpPr/>
          <p:nvPr/>
        </p:nvSpPr>
        <p:spPr>
          <a:xfrm>
            <a:off x="1300320" y="404640"/>
            <a:ext cx="788760" cy="10717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zzle2"/>
          <p:cNvSpPr/>
          <p:nvPr/>
        </p:nvSpPr>
        <p:spPr>
          <a:xfrm>
            <a:off x="1071720" y="1185840"/>
            <a:ext cx="1258560" cy="97488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uzzle4"/>
          <p:cNvSpPr/>
          <p:nvPr/>
        </p:nvSpPr>
        <p:spPr>
          <a:xfrm>
            <a:off x="584280" y="1173240"/>
            <a:ext cx="758880" cy="12477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uzzle1"/>
          <p:cNvSpPr/>
          <p:nvPr/>
        </p:nvSpPr>
        <p:spPr>
          <a:xfrm>
            <a:off x="324000" y="728640"/>
            <a:ext cx="1274760" cy="7444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242100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âce à l’étude des carottes océaniques, retrouvez les étapes de la séparation des deux continents Ouranos et Gaï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3452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035240" cy="604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03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30640" cy="619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130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547560"/>
            <a:ext cx="813600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496800"/>
            <a:ext cx="8353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82090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20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137440" cy="57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216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536840"/>
            <a:ext cx="8064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Objectif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âce à l’étude des données paléontologiques et des carottes océaniques, reconstituez une partie de l’histoire tectonique de Tectonia, planète jumelle de la Ter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0464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imation 1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 modèle d’expansion océa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2205000"/>
            <a:ext cx="3225600" cy="3239640"/>
            <a:chOff x="3203640" y="2205000"/>
            <a:chExt cx="3225600" cy="3239640"/>
          </a:xfrm>
        </p:grpSpPr>
        <p:sp>
          <p:nvSpPr>
            <p:cNvPr id="49" name="Puzzle3"/>
            <p:cNvSpPr/>
            <p:nvPr/>
          </p:nvSpPr>
          <p:spPr>
            <a:xfrm>
              <a:off x="4774320" y="2205000"/>
              <a:ext cx="1267560" cy="17218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zzle2"/>
            <p:cNvSpPr/>
            <p:nvPr/>
          </p:nvSpPr>
          <p:spPr>
            <a:xfrm>
              <a:off x="4405680" y="3459240"/>
              <a:ext cx="2023560" cy="1568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uzzle4"/>
            <p:cNvSpPr/>
            <p:nvPr/>
          </p:nvSpPr>
          <p:spPr>
            <a:xfrm>
              <a:off x="3622320" y="3439800"/>
              <a:ext cx="1220040" cy="20048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Puzzle1"/>
            <p:cNvSpPr/>
            <p:nvPr/>
          </p:nvSpPr>
          <p:spPr>
            <a:xfrm>
              <a:off x="3203640" y="2725920"/>
              <a:ext cx="2048760" cy="11952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7280" y="234936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uelles preuves d’une activité tectonique sur Tecton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95280"/>
            <a:ext cx="8353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836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m : « Dorsales et points chaud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03640" y="2205000"/>
            <a:ext cx="3225600" cy="3239640"/>
            <a:chOff x="3203640" y="2205000"/>
            <a:chExt cx="3225600" cy="3239640"/>
          </a:xfrm>
        </p:grpSpPr>
        <p:sp>
          <p:nvSpPr>
            <p:cNvPr id="57" name="Puzzle3"/>
            <p:cNvSpPr/>
            <p:nvPr/>
          </p:nvSpPr>
          <p:spPr>
            <a:xfrm>
              <a:off x="4774320" y="2205000"/>
              <a:ext cx="1267560" cy="17218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2"/>
            <p:cNvSpPr/>
            <p:nvPr/>
          </p:nvSpPr>
          <p:spPr>
            <a:xfrm>
              <a:off x="4405680" y="3459240"/>
              <a:ext cx="2023560" cy="1568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4"/>
            <p:cNvSpPr/>
            <p:nvPr/>
          </p:nvSpPr>
          <p:spPr>
            <a:xfrm>
              <a:off x="3622320" y="3439800"/>
              <a:ext cx="1220040" cy="20048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1"/>
            <p:cNvSpPr/>
            <p:nvPr/>
          </p:nvSpPr>
          <p:spPr>
            <a:xfrm>
              <a:off x="3203640" y="2725920"/>
              <a:ext cx="2048760" cy="11952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2720" y="62064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ima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sion océanique et séd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03640" y="2205000"/>
            <a:ext cx="3225600" cy="3239640"/>
            <a:chOff x="3203640" y="2205000"/>
            <a:chExt cx="3225600" cy="3239640"/>
          </a:xfrm>
        </p:grpSpPr>
        <p:sp>
          <p:nvSpPr>
            <p:cNvPr id="63" name="Puzzle3"/>
            <p:cNvSpPr/>
            <p:nvPr/>
          </p:nvSpPr>
          <p:spPr>
            <a:xfrm>
              <a:off x="4774320" y="2205000"/>
              <a:ext cx="1267560" cy="17218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uzzle2"/>
            <p:cNvSpPr/>
            <p:nvPr/>
          </p:nvSpPr>
          <p:spPr>
            <a:xfrm>
              <a:off x="4405680" y="3459240"/>
              <a:ext cx="2023560" cy="1568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uzzle4"/>
            <p:cNvSpPr/>
            <p:nvPr/>
          </p:nvSpPr>
          <p:spPr>
            <a:xfrm>
              <a:off x="3622320" y="3439800"/>
              <a:ext cx="1220040" cy="20048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Puzzle1"/>
            <p:cNvSpPr/>
            <p:nvPr/>
          </p:nvSpPr>
          <p:spPr>
            <a:xfrm>
              <a:off x="3203640" y="2725920"/>
              <a:ext cx="2048760" cy="11952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24336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ectonia a-t-elle toujours eu plusieurs contin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13240" cy="2822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24440" y="1557360"/>
            <a:ext cx="3895560" cy="2690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3168720" cy="293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1916280"/>
            <a:ext cx="86508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3860640"/>
            <a:ext cx="115272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2:40:23Z</dcterms:created>
  <dc:creator>iroux</dc:creator>
  <dc:description/>
  <dc:language>en-US</dc:language>
  <cp:lastModifiedBy>iroux</cp:lastModifiedBy>
  <dcterms:modified xsi:type="dcterms:W3CDTF">2007-04-11T12:49:35Z</dcterms:modified>
  <cp:revision>6</cp:revision>
  <dc:subject/>
  <dc:title>Diapositive 1</dc:title>
</cp:coreProperties>
</file>